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6D3-0A5B-46D7-89AD-D5C3ECAE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2DE-DA35-42D5-AAF5-3F22202F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7AA-B7A0-4583-8D33-49F3398D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4D2-C666-43F8-9904-4FEBD85C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45F5-FB22-4D4F-89CE-0D1F2500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9A0A-D51F-4E4B-AB30-CA560760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342A-2FFA-4F75-A20D-D3A0165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4427-764A-4072-86DE-26CB969B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D747-3371-46A8-9155-04BE774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6A00-5F84-4748-AACF-46D85001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A12F-DE1E-465A-98F1-61650B4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120-36AD-4386-9B64-0FB8CB69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04CC-D0F4-4363-871A-6A120A4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9687-5F1C-4309-BF7C-4ED01EE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DE61-10BA-4E57-BE88-500E4388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7E95-A271-4F7D-9617-4A964C97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0D3D-3D52-4EEE-9C0C-BEF034F4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DEEA-E1F1-418A-A667-94AD139C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65E3-670A-4740-95F0-F0805D71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D1F6-D088-4DB4-A352-10E5DB7B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FA06-F04F-4585-B13E-3846AF7E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CE89-EFE6-4A33-8E09-917DDD16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617-335D-47E6-B6BB-003E7D8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9C8B-4D94-43D1-8535-2342F149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9961-819E-430F-B32F-26BEA88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6C6D-43EF-4657-8EDE-12FEBAF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E7DE-AC01-4CAA-BF9B-BDC3314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2AF4-9483-4552-BAF5-F4F951A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14CF-0332-4D17-9D4A-DA62B4AA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E055-9D89-4C21-BB33-E9596A00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E263-61A0-4FDB-B618-B8056AE3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EF42B-A118-4947-90A5-70B54AD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CCCB-52A9-4516-A888-61C854B7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F4F-4D36-4194-8812-916B426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71D5-874C-4096-8B84-D7712A52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23E25-FD37-4022-B9C1-D79D55A7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2E84-C2F2-4700-8B3F-B99FB26F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D27A-A82C-4561-B614-9E96B8C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84AF-7D49-46E7-BF18-C211B9B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0962-0BCF-4EF7-94D0-1CB44D04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195F-9D34-4C1F-91FA-D14D1D1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9C98-9104-483C-A914-0AA23B0D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413C-BE83-491C-8E79-1785CCD6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8B2-35B2-4D87-95B6-F8963652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4CD-5A5B-418D-92A7-48D9171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23E-2BA3-496B-90B5-F927B760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0A2-59B8-4013-8763-BA1506C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8C3-2BAE-4D2F-9890-4606A3C4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4DC-91D4-49ED-8C3C-E0A9EC99D9A9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B5E-C4DE-412A-A5C4-99D159D91F15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304C-F659-42A0-ABCB-202492DD84FB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00AD-4016-4B11-9FF9-1B8803C20DF0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46144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Objectif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To greet someone and say good by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To ask how someone 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To introduce someo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’Autres mots de vocabula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s terrible/Pas génial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gre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/Un prof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MOI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 copai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Male Frien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e copine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Female Frien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Ways to Greet Someo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Salut! </a:t>
            </a:r>
            <a:r>
              <a:rPr b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Hi (in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Bonjour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 Morning until 5 or 6 p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Bonsoir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After 5 or 6 pm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s://encrypted-tbn0.google.com/images?q=tbn:ANd9GcQ5MuxDVq0QGtHgxRz5uQAJ9rqjqeQrI7W46F7smejqmGuwwZ7A"/>
          <p:cNvPicPr/>
          <p:nvPr/>
        </p:nvPicPr>
        <p:blipFill>
          <a:blip r:embed="rId1"/>
          <a:stretch/>
        </p:blipFill>
        <p:spPr>
          <a:xfrm>
            <a:off x="6400800" y="487692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Mr./Mrs./Mi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28600" y="182880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nstantia"/>
              </a:rPr>
              <a:t>Monsieu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505320" y="594360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nstantia"/>
              </a:rPr>
              <a:t>Mada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248520" y="160020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nstantia"/>
              </a:rPr>
              <a:t>Mademoisel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https://encrypted-tbn3.google.com/images?q=tbn:ANd9GcQTrqMZ3IMHhg8FnYmWvXWihb4FDWX66uIDgtIwCcI2kr8_tuN20w"/>
          <p:cNvPicPr/>
          <p:nvPr/>
        </p:nvPicPr>
        <p:blipFill>
          <a:blip r:embed="rId1"/>
          <a:stretch/>
        </p:blipFill>
        <p:spPr>
          <a:xfrm>
            <a:off x="228600" y="243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s://encrypted-tbn1.google.com/images?q=tbn:ANd9GcSoqLaCUlaG4S-vBWgpLIHb1PQI-dPs6TAWV_f1HUlGtrh1ULuF-A"/>
          <p:cNvPicPr/>
          <p:nvPr/>
        </p:nvPicPr>
        <p:blipFill>
          <a:blip r:embed="rId2"/>
          <a:stretch/>
        </p:blipFill>
        <p:spPr>
          <a:xfrm>
            <a:off x="3352680" y="3048120"/>
            <a:ext cx="1695600" cy="2695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s://encrypted-tbn3.google.com/images?q=tbn:ANd9GcQxYNNKdBmcDRmHkbuGziSyY0nnKMXgU4KSZVTasD5JkRWBQTVLWQ"/>
          <p:cNvPicPr/>
          <p:nvPr/>
        </p:nvPicPr>
        <p:blipFill>
          <a:blip r:embed="rId3"/>
          <a:stretch/>
        </p:blipFill>
        <p:spPr>
          <a:xfrm>
            <a:off x="6095880" y="25146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Note Culturel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arlier this year, the French government decided to officially do away with the term</a:t>
            </a: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 Mademoisell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on government document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What do you think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uld you see either Miss or Ms. be removed from official English documents in the U.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Ways to Say Good By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bientôt!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See you soon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demain!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See you tomorrow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plus tard!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Later! OR See you lat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tout à l’heure! 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See you lat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Tchao!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– Ciao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u revoir!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 by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MS (text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plus tard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is shorted to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plus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+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https://encrypted-tbn1.google.com/images?q=tbn:ANd9GcRMZLD4gO3q-1I2iRC5Vw_lo0uN6ezhBtBntEAOmT-o-KSdv0G0qQ"/>
          <p:cNvPicPr/>
          <p:nvPr/>
        </p:nvPicPr>
        <p:blipFill>
          <a:blip r:embed="rId1"/>
          <a:stretch/>
        </p:blipFill>
        <p:spPr>
          <a:xfrm>
            <a:off x="6629400" y="297180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Note on Formal/Inform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you are speaking to people wh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re older than you that you don’t know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you will want to us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VOU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VOU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speaking t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re than one pers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regardless of ag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ind of like Y’all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you are speaking to a person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our own ag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oung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ed between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amily members, even those older than yo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o Ask Someone’s Name &amp; Respond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tu t’appel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’s your nam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vous vous appellez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’s your nam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il/elle s’appel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’s his/her nam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m’appell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/elle s’appelle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king How Someone 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Ça va?/Comment ça v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’s it going? (In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allez-vou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are you? (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t toi?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you? (In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t vou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you? (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6019920" y="17524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ui, ça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ond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https://encrypted-tbn1.google.com/images?q=tbn:ANd9GcQj2z7gx9eQlZDIR33VzIe0cI4TTkVh5U05teHZjX0DwhHCr0AO"/>
          <p:cNvPicPr/>
          <p:nvPr/>
        </p:nvPicPr>
        <p:blipFill>
          <a:blip r:embed="rId1"/>
          <a:stretch/>
        </p:blipFill>
        <p:spPr>
          <a:xfrm>
            <a:off x="380880" y="243828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s://encrypted-tbn2.google.com/images?q=tbn:ANd9GcQ3gGBwGlzxYRkj3byBLXkd-4ODB5E_IUXtQaEpY5kzrOYSM34MZQ"/>
          <p:cNvPicPr/>
          <p:nvPr/>
        </p:nvPicPr>
        <p:blipFill>
          <a:blip r:embed="rId2"/>
          <a:stretch/>
        </p:blipFill>
        <p:spPr>
          <a:xfrm>
            <a:off x="3048120" y="502920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https://encrypted-tbn0.google.com/images?q=tbn:ANd9GcSYHvCDiNxA5zqN5lgRJCiuK49rwl0JP7wG4IZ9_3HvYcHZKmK1-g"/>
          <p:cNvPicPr/>
          <p:nvPr/>
        </p:nvPicPr>
        <p:blipFill>
          <a:blip r:embed="rId3"/>
          <a:stretch/>
        </p:blipFill>
        <p:spPr>
          <a:xfrm>
            <a:off x="6705720" y="2133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304920" y="1600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ien/Très bien, merc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3276720" y="36576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s mal/Comme ci, comme ça/Plus ou m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208560" y="144792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n, pas très 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Ça va ma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5:08:53Z</dcterms:created>
  <dc:creator>Robbie</dc:creator>
  <dc:description/>
  <dc:language>en-US</dc:language>
  <cp:lastModifiedBy>Robert Stevens</cp:lastModifiedBy>
  <dcterms:modified xsi:type="dcterms:W3CDTF">2012-08-09T16:46:49Z</dcterms:modified>
  <cp:revision>3</cp:revision>
  <dc:subject/>
  <dc:title>Vocabulaire 1-1</dc:title>
</cp:coreProperties>
</file>